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673F-0A05-4D29-8ED4-CD201CB8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975F-CF2D-4CED-AA63-F95CD43E77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D70-F717-47EE-A655-7FF1EE6CD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E54D-C507-4067-8381-D0EAB09AD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C7F-E91B-4477-95FF-978A38F2E3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851-5709-4513-B14F-B085D4E07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7124-B85D-4DF8-9607-D65E0AF09A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02A-F607-44BD-910D-D043FC9EF5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A2AD-E214-4FE1-A7EC-A1BB0DF249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EBAD-5B55-43F9-93D8-07039AAF39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1991-EC8E-4928-802C-2B26671D17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ABD-3495-4112-8076-3DC1277DE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BB3-3266-4449-A2D2-D24580FB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D7C-5DCB-4E6F-85D3-41427E4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C7D-2721-4FD9-9A20-98BE0BB6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995-7D38-404B-937C-69534999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9B86-D07B-4DD1-8BDC-3FD5999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733-9031-419B-8699-08651D98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E2BE-B756-437B-9132-D453CDA2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32C-F5F2-4CA2-B6EC-EA116988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E046-77ED-4DD3-A865-26353179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0A28-C01A-46B5-8BBE-204651F4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453-45B8-4CBE-9653-A249BBC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317-FC9C-4945-8BDE-6ED0FC5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1C9-29DA-49F4-BD0E-ECFB8A9C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F1E-A684-4BDD-8B28-42FE415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5185-DDC8-454A-ACE1-7A706B7B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40F-5514-4A36-8BCF-F4ED85F7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F1C-F680-49B5-9794-A6A5620D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BED7-6409-4A7D-B2B8-78997B91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78E2-428E-4A4E-A80C-092F305B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3315-7496-4950-9DAF-E0002D14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60FD-FC35-4FC6-B96F-4CBF244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C472-E9FC-4BB1-8C8A-2628401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412-7D55-4B31-BD3D-B364D95A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F10A-151B-4386-B31F-93BC2693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B61A-F704-49AF-8E51-596BBDF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F6EC-3694-4D93-A14A-925B237F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6014-537E-4544-A0FC-8331FA48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78C1-240F-46B3-A8F3-922943E1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B1BF-762C-43B8-A818-1F613F91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C0D3-9CFD-43C2-AD3F-674188F9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5E9E-8B10-457D-A561-885E237C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C8DD-7058-4256-A7F5-E1288B59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F618-9570-42EE-894C-7AA736C3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616-445F-4FA9-A011-B1F605B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E846-DEAB-4BDC-A706-590E274E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CB35-E08F-4C63-8CFE-6432BF8B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1C2A-07D2-4C16-B0D1-E99C2693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F8E0B-6588-4F8D-8177-CD92D93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8019-BB7A-439A-97AD-1F3BFB6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8753-CF65-4946-A627-435292E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4BDD-A882-4E9B-9EBE-64FF7FC2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D488-20BB-441B-AA0B-6E451722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0F0A-7766-43B3-8A8D-731A75DE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99EE-CD17-4BEC-8391-13644542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E03-A13A-48E3-8FC5-8805D7C5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74D07-33DA-4E9D-813B-2F57AEC3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CE4B-782F-4AB0-AB8C-BB33C35C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3597-BD30-4F08-B29A-06588757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8EBE-5F4F-4F49-B797-1E5E5C19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E75C-8B00-420D-A687-C28A2E0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56D9-DD9B-45A1-AE25-DCE0C1E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870F-A293-48F6-83B5-FA0A683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EC0C-9A8A-4E20-B5EF-A1769B62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1471-C5EF-471A-8E77-B13642A3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5AD8-E161-430F-9A73-4CA2963A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B07-775A-4751-9271-5599F3F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900CC-A2A7-46BE-BC20-6DC97BC5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7FA-2940-43CC-B110-26009D5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4D9-2735-4554-A4A4-059D7771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C53-121D-4360-BB8D-C7F5565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B8C-FC0C-40BF-8123-8EC15912920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F8AE-85B1-49D2-A8BF-118737E245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4BC-FA19-46FB-9B85-C7D50383FE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851-9339-4F96-A6AD-EFD03C0CB2F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49EC-4600-4D41-8D72-A12E0ECD8F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352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he Anti-War Movement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Essential Question</a:t>
            </a:r>
            <a:r>
              <a:rPr b="0" lang="en-US" sz="2400" spc="-1" strike="noStrike">
                <a:solidFill>
                  <a:srgbClr val="79766f"/>
                </a:solidFill>
                <a:latin typeface="Verdana"/>
              </a:rPr>
              <a:t>: Who were the people that protested the Vietnam War? And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-38160" y="0"/>
            <a:ext cx="45244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HSUS_ch29_s4_KentStatePhoto"/>
          <p:cNvPicPr/>
          <p:nvPr/>
        </p:nvPicPr>
        <p:blipFill>
          <a:blip r:embed="rId1"/>
          <a:srcRect l="0" t="0" r="15387" b="0"/>
          <a:stretch/>
        </p:blipFill>
        <p:spPr>
          <a:xfrm>
            <a:off x="114480" y="1752480"/>
            <a:ext cx="4609800" cy="4114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6"/>
          <p:cNvSpPr/>
          <p:nvPr/>
        </p:nvSpPr>
        <p:spPr>
          <a:xfrm>
            <a:off x="4800600" y="1857240"/>
            <a:ext cx="411480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t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Kent 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Univer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in Ohio,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four students were shot by National Guardsm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 similar confrontation at Jackson State University in Mississippi left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wo students dea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6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unterprotests were held by those supporting Nixon and the war effor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04920" y="1249200"/>
            <a:ext cx="85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t home, protests escala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-31680" y="76320"/>
            <a:ext cx="9169200" cy="54100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226044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JVQK8fU99S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ar Protes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560"/>
            <a:ext cx="8076960" cy="4190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 1970 Nixon announced that he had ordered troops into Cambod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intensified—especially on college campu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ntiwar protests erupted into viol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ixon believed that antiwar protesters represented only a minority of Americ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adical antiwar groups turned to violent measures to oppose the w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ore and more Americans began to oppose the war when they learned about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y Lai massacre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 and 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entagon Paper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Increasing Protests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y Lai Massa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roops under Lieutenant William Calley killed at least 450 men, women, and children in the village of My Lai while on a search-and-destroy miss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No Vietcong were found in the vill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My Lai massacre was kept quiet at first, but former soldiers began talking about i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is atrocity intensified the divisions between war supporters and oppone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Calley was convicted of murder and sentenced to life in prison; he was paroled in 197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495320" y="838080"/>
            <a:ext cx="4038840" cy="5029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ntagon 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 collection of secret government documents that traced the history of U.S. military involvement in Vietnam since the Truman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Revealed that government officials had been misleading the American people about the war for yea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aniel Ellsberg leaked the papers to the pres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llsberg originally supported the war, but then concluded that few South Vietnamese civilians supported the U.S.-backed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8610480" y="320040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86119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4680"/>
            <a:ext cx="921708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3434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5295960" cy="42670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lower Pow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5310360" y="1728720"/>
            <a:ext cx="3687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amous Vietnam Song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33520" y="3808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tunate Son- CCR http://www.youtube.com/watch?v=rbNnvPBok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mme Shelter- Rolling Stones http://www.youtube.com/watch?v=n_a0zOLMAf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Gotta Get Out of This Place- The Animals http://www.youtube.com/watch?v=W5ueEVlUUg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0"/>
          <p:cNvSpPr/>
          <p:nvPr/>
        </p:nvSpPr>
        <p:spPr>
          <a:xfrm flipH="1" rot="16200000">
            <a:off x="4837680" y="1942920"/>
            <a:ext cx="3352680" cy="4038840"/>
          </a:xfrm>
          <a:prstGeom prst="upArrowCallout">
            <a:avLst>
              <a:gd name="adj1" fmla="val 25002"/>
              <a:gd name="adj2" fmla="val 25000"/>
              <a:gd name="adj3" fmla="val 20078"/>
              <a:gd name="adj4" fmla="val 51176"/>
            </a:avLst>
          </a:prstGeom>
          <a:gradFill rotWithShape="0">
            <a:gsLst>
              <a:gs pos="0">
                <a:srgbClr val="ffc000">
                  <a:alpha val="5019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 flipH="1" rot="5400000">
            <a:off x="875160" y="2018880"/>
            <a:ext cx="3352680" cy="3886200"/>
          </a:xfrm>
          <a:prstGeom prst="upArrowCallout">
            <a:avLst>
              <a:gd name="adj1" fmla="val 25002"/>
              <a:gd name="adj2" fmla="val 25000"/>
              <a:gd name="adj3" fmla="val 19319"/>
              <a:gd name="adj4" fmla="val 48129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62120" y="2362320"/>
            <a:ext cx="2666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Doves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questioned </a:t>
            </a:r>
            <a:br>
              <a:rPr sz="2200"/>
            </a:b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the war.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They included liberal politicians and students who saw the conflict as a localized civil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715000" y="2362320"/>
            <a:ext cx="2743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Hawks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supported Johnson’s war policies.</a:t>
            </a:r>
            <a:r>
              <a:rPr b="0" lang="en-US" sz="2200" spc="-1" strike="noStrike">
                <a:solidFill>
                  <a:srgbClr val="323232"/>
                </a:solidFill>
                <a:latin typeface="Verdana"/>
                <a:ea typeface="Arial"/>
              </a:rPr>
              <a:t> They were mostly conservatives who believed the war was crucial to a U.S. Cold War victory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4" descr="hsus_ch29_s2_dove"/>
          <p:cNvPicPr/>
          <p:nvPr/>
        </p:nvPicPr>
        <p:blipFill>
          <a:blip r:embed="rId1"/>
          <a:stretch/>
        </p:blipFill>
        <p:spPr>
          <a:xfrm>
            <a:off x="3276720" y="20955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sus_ch29_s2_hawk2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3733920" y="3368520"/>
            <a:ext cx="2214360" cy="2041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oves vs. Hawk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304920" y="1447920"/>
            <a:ext cx="26668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edia’s Impact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Reporters and television crews went on patrol with the soldi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Television brought scenes of firefights and burning villages into America’s living roo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riticized the government’s reports about th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048120" y="1447920"/>
            <a:ext cx="2666880" cy="44956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 and Do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Dove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—people opposed to th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—people who supported the war’s go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Both criticized the war effo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Hawks wanted more troops and bomb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Doves opposed the war for many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Public Opinion Regarding the Vietnam War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867888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867888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867888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5791320" y="1447920"/>
            <a:ext cx="2895480" cy="44956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Movemen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vement attracted a broad range of 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uch antiwar activity took place on college camp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st vocal group—Students for a Democratic Soci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protesters made up a small percentage of the U.S. popul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Verdana"/>
              </a:rPr>
              <a:t>Reasons that Doves Opposed the War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0880" y="1371600"/>
            <a:ext cx="8305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Vietnam was not crucial to American national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United States was fighting against the wishes of a majority of Vietnam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the war was draining needed resources from Great Society progra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it was unfair for African Americans to fight for democracy in a foreign land when discrimination continued at 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rgued that Johnson’s policies were too extr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9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5"/>
          <p:cNvSpPr/>
          <p:nvPr/>
        </p:nvSpPr>
        <p:spPr>
          <a:xfrm>
            <a:off x="838080" y="3124080"/>
            <a:ext cx="7162920" cy="266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b0f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9f2936"/>
            </a:solidFill>
            <a:miter/>
          </a:ln>
          <a:effectLst>
            <a:outerShdw dist="53966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29"/>
          <p:cNvSpPr/>
          <p:nvPr/>
        </p:nvSpPr>
        <p:spPr>
          <a:xfrm>
            <a:off x="838080" y="1384200"/>
            <a:ext cx="7925040" cy="16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s more troops died and no clear victory emerged, increasing numbers of Americans opposed the Vietnam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Many people opposed the policies of the d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130"/>
          <p:cNvSpPr/>
          <p:nvPr/>
        </p:nvSpPr>
        <p:spPr>
          <a:xfrm>
            <a:off x="1066680" y="3309840"/>
            <a:ext cx="67057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re than 1.5 million young men were drafted during the Vietnam W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y argued the draft unfairly gave deferments to stud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5360" indent="-22536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ost of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Arial"/>
              </a:rPr>
              <a:t>drafte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me from a poor or working-class backgr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6"/>
          <p:cNvSpPr/>
          <p:nvPr/>
        </p:nvSpPr>
        <p:spPr>
          <a:xfrm>
            <a:off x="4648320" y="2438280"/>
            <a:ext cx="41907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African Americans wer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less likely than whit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beco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mmissioned officers.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y were more likely to serve, and die, in combat posi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8088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number of African Americans fighting in Vietnam was disproportionately hig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HSUS_ch29_s3_AfricanAmericanVietnamGraph"/>
          <p:cNvPicPr/>
          <p:nvPr/>
        </p:nvPicPr>
        <p:blipFill>
          <a:blip r:embed="rId1"/>
          <a:stretch/>
        </p:blipFill>
        <p:spPr>
          <a:xfrm>
            <a:off x="609480" y="2209680"/>
            <a:ext cx="381024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h29_images_hsus_se_p1000"/>
          <p:cNvPicPr/>
          <p:nvPr/>
        </p:nvPicPr>
        <p:blipFill>
          <a:blip r:embed="rId1"/>
          <a:srcRect l="0" t="1810" r="0" b="0"/>
          <a:stretch/>
        </p:blipFill>
        <p:spPr>
          <a:xfrm>
            <a:off x="-190440" y="1219320"/>
            <a:ext cx="6057720" cy="46479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9"/>
          <p:cNvSpPr/>
          <p:nvPr/>
        </p:nvSpPr>
        <p:spPr>
          <a:xfrm>
            <a:off x="5943600" y="1585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equalities in the draft led to widespread resistance again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he w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943600" y="399240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Verdana"/>
                <a:ea typeface="Arial"/>
              </a:rPr>
              <a:t>In 1969, the draft was restructured to introduce a lottery sys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7"/>
          <p:cNvSpPr/>
          <p:nvPr/>
        </p:nvSpPr>
        <p:spPr>
          <a:xfrm>
            <a:off x="685800" y="1447920"/>
            <a:ext cx="777240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ff"/>
              </a:gs>
            </a:gsLst>
            <a:lin ang="540000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066680" y="1676520"/>
            <a:ext cx="6934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Students’ opposition to the war grew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olleges and universities became centers of antiwar activis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Most upper middle-class students oppos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he war; working-class students generally supported the w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Aft>
                <a:spcPts val="2750"/>
              </a:spcAft>
              <a:buClr>
                <a:srgbClr val="ff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Students for a Democratic Society (SD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campaigned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Arial"/>
              </a:rPr>
              <a:t>to end the war in Vietn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"/>
          <p:cNvSpPr/>
          <p:nvPr/>
        </p:nvSpPr>
        <p:spPr>
          <a:xfrm>
            <a:off x="1981080" y="5867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youtube.com/watch?v=mDiFkckszC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380880" y="1143000"/>
            <a:ext cx="250848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ampus Viol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Kent State University in Oh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4 students were killed and 9 inju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Jackson State College in Mississip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600" indent="-18288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2 students were killed and 9 wou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971800" y="1143000"/>
            <a:ext cx="2819520" cy="48006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Antiwar M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Polls showed that fifty percent of Americans opposed the w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Coalition of clergy, trade unionists, and veterans established a nationwide day of protest called Moratorium 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250,000 protesters made up the largest antiwar demonstration in U.S. hist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Increasing Protest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8534520" y="33526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8534520" y="289548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8534520" y="38098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"/>
          <p:cNvSpPr/>
          <p:nvPr/>
        </p:nvSpPr>
        <p:spPr>
          <a:xfrm>
            <a:off x="5943600" y="1143000"/>
            <a:ext cx="2514600" cy="4800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Radical Protests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Some antiwar groups turned to violent meas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The Weathermen set off more than 5,000 bombs and carried out the Days of 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ff99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Arial"/>
              </a:rPr>
              <a:t>Most antiwar protesters did not support extremist groups or terrorist meas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2:25:30Z</dcterms:created>
  <dc:creator>Gille, Brock</dc:creator>
  <dc:description/>
  <dc:language>en-US</dc:language>
  <cp:lastModifiedBy>Sacerdote, Kevin R.</cp:lastModifiedBy>
  <dcterms:modified xsi:type="dcterms:W3CDTF">2016-03-30T15:17:55Z</dcterms:modified>
  <cp:revision>10</cp:revision>
  <dc:subject/>
  <dc:title>PowerPoint Presentation</dc:title>
</cp:coreProperties>
</file>